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5.jpeg" ContentType="image/jpeg"/>
  <Override PartName="/ppt/media/image23.png" ContentType="image/png"/>
  <Override PartName="/ppt/media/image21.jpeg" ContentType="image/jpeg"/>
  <Override PartName="/ppt/media/image29.png" ContentType="image/png"/>
  <Override PartName="/ppt/media/image20.png" ContentType="image/png"/>
  <Override PartName="/ppt/media/image2.jpeg" ContentType="image/jpeg"/>
  <Override PartName="/ppt/media/image36.jpeg" ContentType="image/jpeg"/>
  <Override PartName="/ppt/media/image5.png" ContentType="image/png"/>
  <Override PartName="/ppt/media/image28.png" ContentType="image/png"/>
  <Override PartName="/ppt/media/image6.png" ContentType="image/png"/>
  <Override PartName="/ppt/media/image22.jpeg" ContentType="image/jpeg"/>
  <Override PartName="/ppt/media/image12.png" ContentType="image/png"/>
  <Override PartName="/ppt/media/image7.png" ContentType="image/png"/>
  <Override PartName="/ppt/media/image34.jpeg" ContentType="image/jpeg"/>
  <Override PartName="/ppt/media/image37.png" ContentType="image/png"/>
  <Override PartName="/ppt/media/image8.png" ContentType="image/png"/>
  <Override PartName="/ppt/media/image13.png" ContentType="image/png"/>
  <Override PartName="/ppt/media/image11.jpeg" ContentType="image/jpeg"/>
  <Override PartName="/ppt/media/image9.jpeg" ContentType="image/jpeg"/>
  <Override PartName="/ppt/media/image32.jpeg" ContentType="image/jpeg"/>
  <Override PartName="/ppt/media/image33.jpeg" ContentType="image/jpeg"/>
  <Override PartName="/ppt/media/image35.jpeg" ContentType="image/jpeg"/>
  <Override PartName="/ppt/media/image10.png" ContentType="image/png"/>
  <Override PartName="/ppt/media/image27.jpeg" ContentType="image/jpeg"/>
  <Override PartName="/ppt/media/image4.png" ContentType="image/png"/>
  <Override PartName="/ppt/media/image30.png" ContentType="image/png"/>
  <Override PartName="/ppt/media/image3.jpeg" ContentType="image/jpeg"/>
  <Override PartName="/ppt/media/image24.jpeg" ContentType="image/jpeg"/>
  <Override PartName="/ppt/media/image31.png" ContentType="image/png"/>
  <Override PartName="/ppt/media/image1.png" ContentType="image/png"/>
  <Override PartName="/ppt/media/image14.png" ContentType="image/png"/>
  <Override PartName="/ppt/media/image16.jpeg" ContentType="image/jpeg"/>
  <Override PartName="/ppt/media/image17.jpeg" ContentType="image/jpeg"/>
  <Override PartName="/ppt/media/image15.png" ContentType="image/png"/>
  <Override PartName="/ppt/media/image18.jpeg" ContentType="image/jpeg"/>
  <Override PartName="/ppt/media/image1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760E-C6A5-40B6-9E86-566ACF59F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AB42-7388-4883-B54E-75CBF16BB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9781-389C-4FA6-B2D0-CC0B72D4A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0E9F-9416-4213-BE3B-C05B70543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6DBF-75A5-4DE0-BC3A-F55BF8703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9CFB-132F-498D-BBD9-AB959DFD0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3DE6-0CF5-4211-9480-EA98FED5C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4734-9CC8-4C6E-A889-C3FA57111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2EDD-38F8-4596-976E-5BE60EB80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CCAF-6487-4A62-9C0E-8C99D2622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D33B-099A-402A-926B-CB92C1EFB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37CD-7C48-4ED8-A367-26C075D9B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feb4"/>
            </a:gs>
            <a:gs pos="100000">
              <a:srgbClr val="27b6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96847-F493-47B2-8F77-F63FE85930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hyperlink" Target="http://www.rockefeller.edu/vaf/strep.htm" TargetMode="External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ulb.ac.be/sciences/biodic/ImBacterie2.html" TargetMode="External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hyperlink" Target="http://faculty.clintoncc.suny.edu/faculty/Michael.Gregory/files/Bio%20102/Bio%20102%20lectures/animal%20cells%20and%20tissues/wpeE.jpg" TargetMode="External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hyperlink" Target="http://www.bioschool.co.uk/bioschool.co.uk/images/images/nerve%20cells_JPG.jpg" TargetMode="External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slideLayout" Target="../slideLayouts/slideLayout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7.png"/><Relationship Id="rId6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feb4"/>
            </a:gs>
            <a:gs pos="100000">
              <a:srgbClr val="27b6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view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a typical prokaryote ce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a typical eukaryote ce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the differences between a prokaryote and eukaryote ce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has the simplicity of prokaryotes affected their ability to adapt and survive / thri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has the complexity of eukaryotes affected their ability to adapt and survive / thri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feb4"/>
            </a:gs>
            <a:gs pos="100000">
              <a:srgbClr val="27b6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karyote Characteris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mplest organisms: Very small siz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ck membrane-bound organelles inside the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ve few internal structur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at are distinguishable under a microsco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tic information 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a circular loop calle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 plasmid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ead of having chromosomal DN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ong cell walls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istant to environmental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feb4"/>
            </a:gs>
            <a:gs pos="100000">
              <a:srgbClr val="27b6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-838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z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terial cells are very small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out 1-2µm in diameter and 10 µm lo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e micrometer = 1/1000 m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agine looking at a dime from its thinnest side and trying to slice it into a thousand pieces; that is the same as 1 µ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286000" y="3657600"/>
            <a:ext cx="4648320" cy="30463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feb4"/>
            </a:gs>
            <a:gs pos="100000">
              <a:srgbClr val="27b6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ack membrane-bound organelles inside the cel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295280" y="1335240"/>
            <a:ext cx="6324840" cy="52448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feb4"/>
            </a:gs>
            <a:gs pos="100000">
              <a:srgbClr val="27b6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. have few internal structure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that are distinguishable under a microscope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19720" y="3878280"/>
            <a:ext cx="4724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609480" y="2286000"/>
            <a:ext cx="2576520" cy="40384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Biology - 71.125"/>
          <p:cNvPicPr/>
          <p:nvPr/>
        </p:nvPicPr>
        <p:blipFill>
          <a:blip r:embed="rId2"/>
          <a:stretch/>
        </p:blipFill>
        <p:spPr>
          <a:xfrm>
            <a:off x="3581280" y="2514600"/>
            <a:ext cx="4876920" cy="36576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3104640" y="6324480"/>
            <a:ext cx="582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umanitoba.ca/science/biological_sciences/lab3/biolab3_2.html#Exam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feb4"/>
            </a:gs>
            <a:gs pos="100000">
              <a:srgbClr val="27b6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. genetic information i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in a circular loop called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a plasmid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0" y="1752120"/>
            <a:ext cx="41148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. coli cell dividing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 Coli Grows in human intestine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 a single, circular chromos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ins DNA as plasmid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smids are extra-chromosomal D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57200" y="1828800"/>
            <a:ext cx="3873600" cy="42670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054800" y="6095880"/>
            <a:ext cx="385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bio.mtu.edu/campbell/prokaryo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feb4"/>
            </a:gs>
            <a:gs pos="100000">
              <a:srgbClr val="27b6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. Strong cell walls: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sistant to environmental chang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rcRect l="16877" t="7412" r="7522" b="12591"/>
          <a:stretch/>
        </p:blipFill>
        <p:spPr>
          <a:xfrm>
            <a:off x="1752480" y="1676520"/>
            <a:ext cx="5639040" cy="4545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feb4"/>
            </a:gs>
            <a:gs pos="100000">
              <a:srgbClr val="27b6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terial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7010280" cy="58118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feb4"/>
            </a:gs>
            <a:gs pos="100000">
              <a:srgbClr val="27b6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a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4419360" cy="5257800"/>
          </a:xfrm>
          <a:prstGeom prst="rect">
            <a:avLst/>
          </a:prstGeom>
          <a:noFill/>
          <a:ln w="57240">
            <a:solidFill>
              <a:srgbClr val="00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3 basic sha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cci - sphere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cilli - rod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pirilla – spir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2 basic group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ph - in cluster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rep - in chai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800240" y="1600200"/>
            <a:ext cx="3886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i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d shap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her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e_coli_bacteria" descr=""/>
          <p:cNvPicPr/>
          <p:nvPr/>
        </p:nvPicPr>
        <p:blipFill>
          <a:blip r:embed="rId1"/>
          <a:stretch/>
        </p:blipFill>
        <p:spPr>
          <a:xfrm>
            <a:off x="5638680" y="3657600"/>
            <a:ext cx="1676520" cy="13716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Chains of nearly-spherical bacteria"/>
          <p:cNvPicPr/>
          <p:nvPr/>
        </p:nvPicPr>
        <p:blipFill>
          <a:blip r:embed="rId2"/>
          <a:stretch/>
        </p:blipFill>
        <p:spPr>
          <a:xfrm>
            <a:off x="5410080" y="5334120"/>
            <a:ext cx="1828800" cy="11667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7391520" y="5334120"/>
            <a:ext cx="1523880" cy="12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Streptococcu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sp. Chains of nearly-spherical bacteria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The Rockefeller University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This spiral shaped bacteria is the causitive agent of syphilis Treponema pallidum"/>
          <p:cNvPicPr/>
          <p:nvPr/>
        </p:nvPicPr>
        <p:blipFill>
          <a:blip r:embed="rId4"/>
          <a:stretch/>
        </p:blipFill>
        <p:spPr>
          <a:xfrm>
            <a:off x="5486400" y="1981080"/>
            <a:ext cx="1809720" cy="12970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7543800" y="1905120"/>
            <a:ext cx="114300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piral shaped bacteria is the causitive agent of syphilis Treponema pallidum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5"/>
          <a:stretch/>
        </p:blipFill>
        <p:spPr>
          <a:xfrm>
            <a:off x="762120" y="3581280"/>
            <a:ext cx="3581280" cy="6019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feb4"/>
            </a:gs>
            <a:gs pos="100000">
              <a:srgbClr val="27b6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eplica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53341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inary fiss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cell splits into two cells, see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ffspring are genetically identical to par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6006960" y="990720"/>
            <a:ext cx="2341800" cy="5562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feb4"/>
            </a:gs>
            <a:gs pos="100000">
              <a:srgbClr val="27b6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Bacterial conjuga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403884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form of sexual reproduction where bacteria exchange genetic information before divi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fspring have new genes (and new trai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724280" y="1523880"/>
            <a:ext cx="4227480" cy="49532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457200" y="5180760"/>
            <a:ext cx="42670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1. Schematic drawing of bacterial conjugation. 1- Donor cell produces pilus; 2- Pilus attaches to recipient cell, brings the two cells together; 3- The mobile plasmid is nicked and a single strand of DNA is then transferred to the recipent cell; 4- Both cells recircularize their plasmids, synthesize second strands, and reproduce pili. Both cells are now viable dono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24240" y="6400800"/>
            <a:ext cx="40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parts.mit.edu/igem07/index.php/Boston_University/Conjug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feb4"/>
            </a:gs>
            <a:gs pos="100000">
              <a:srgbClr val="27b6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Cell theor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ll living things are made of cel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 can only come from other cel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ll functions of a living thing are carried out in cell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minder:  the functions of living things are: respiration, metabolism, growth, adaptations to the environment, reproduction, homeostasis and interdepen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feb4"/>
            </a:gs>
            <a:gs pos="100000">
              <a:srgbClr val="27b6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ransformatio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teria incorporate genes from dead bac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ransductio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uses insert new genes into bacterial cell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method is used in biotechnology to create bacteria tha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roduce valuable products such as insul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feb4"/>
            </a:gs>
            <a:gs pos="100000">
              <a:srgbClr val="27b6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Moveme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410080" y="1828440"/>
            <a:ext cx="32004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me prokaryotes can't move, while others have long threadlike flagel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bacteria doesn’t move, how does it get from person to pers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80880" y="1905120"/>
            <a:ext cx="4572000" cy="37242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613080" y="4419720"/>
            <a:ext cx="157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Coli flagel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feb4"/>
            </a:gs>
            <a:gs pos="100000">
              <a:srgbClr val="27b6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Prokaryote Functio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compo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ents of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er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y important roles i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gesti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olved in man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utrient cyc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: the nitrogen cycle, which restores nitrate into the soil for plants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verse array of metabolic fun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example, some bacteria use sulfur instead of oxygen in their metabolism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feb4"/>
            </a:gs>
            <a:gs pos="100000">
              <a:srgbClr val="27b6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teria images / 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ulb.ac.be/sciences/biodic/ImBacterie2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buckman.com/eng/micro101/bacteria.h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overy school video:  Understanding Bacte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feb4"/>
            </a:gs>
            <a:gs pos="100000">
              <a:srgbClr val="27b6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400" spc="-1" strike="noStrike">
                <a:solidFill>
                  <a:srgbClr val="000000"/>
                </a:solidFill>
                <a:latin typeface="Arial"/>
              </a:rPr>
              <a:t>Eukaryotes</a:t>
            </a:r>
            <a:endParaRPr b="0" lang="en-US" sz="10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447920" y="2971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the Greek for  “true nucleu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feb4"/>
            </a:gs>
            <a:gs pos="100000">
              <a:srgbClr val="27b6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cells from the plantae and animalia kingdo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4190760"/>
            <a:ext cx="4038480" cy="19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t (elode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48320" y="5486040"/>
            <a:ext cx="40384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imal cells (blood vessel lin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80880" y="2057400"/>
            <a:ext cx="3886200" cy="21812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wpeE.jpg (87659 bytes)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105520" y="2819520"/>
            <a:ext cx="3504960" cy="26175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feb4"/>
            </a:gs>
            <a:gs pos="100000">
              <a:srgbClr val="27b6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ukaryote characteris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l eukaryotes have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) A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 membran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) A Central nucleu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) Organelles in cytoplasm (like ER, vacuoles, mitochondria, etc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feb4"/>
            </a:gs>
            <a:gs pos="100000">
              <a:srgbClr val="27b6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ories of the Origin or organel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ymbiosis: two organisms live closely togeth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osymbiosis: one organism lives inside another (bacteria in u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ory explaining why mitochondria and chloroplasts are found in cell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's thought that mitochondria (m) and chloroplasts (c) were types of prokaryotic cells that lived inside other cells. The m &amp; c helped keep the cell alive and so were retain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idence on relationship of mitochondria and chloroplasts to prokaryote cell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. mitochondria and chloroplasts are both surrounded by double membranes (like bacteria are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. mitochondria and bacteria have similar siz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. mitochondrial ribosomes resemble bacterial ribosom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. mirochondria and chloroplast DNA is circular like bacteri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feb4"/>
            </a:gs>
            <a:gs pos="100000">
              <a:srgbClr val="27b6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ze and shap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related to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cell functio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Exampl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6781680" y="1828800"/>
            <a:ext cx="1981440" cy="13525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876920" y="4343400"/>
            <a:ext cx="1752480" cy="14288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2559-078.jpg: "/>
          <p:cNvPicPr/>
          <p:nvPr/>
        </p:nvPicPr>
        <p:blipFill>
          <a:blip r:embed="rId4"/>
          <a:stretch/>
        </p:blipFill>
        <p:spPr>
          <a:xfrm>
            <a:off x="6858000" y="3352680"/>
            <a:ext cx="2057400" cy="13716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Red blood cells"/>
          <p:cNvPicPr/>
          <p:nvPr/>
        </p:nvPicPr>
        <p:blipFill>
          <a:blip r:embed="rId5"/>
          <a:stretch/>
        </p:blipFill>
        <p:spPr>
          <a:xfrm>
            <a:off x="6781680" y="4876920"/>
            <a:ext cx="2057400" cy="1604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1" name=""/>
          <p:cNvGraphicFramePr/>
          <p:nvPr/>
        </p:nvGraphicFramePr>
        <p:xfrm>
          <a:off x="228600" y="1447920"/>
          <a:ext cx="4572000" cy="5006880"/>
        </p:xfrm>
        <a:graphic>
          <a:graphicData uri="http://schemas.openxmlformats.org/drawingml/2006/table">
            <a:tbl>
              <a:tblPr/>
              <a:tblGrid>
                <a:gridCol w="4572000"/>
              </a:tblGrid>
              <a:tr h="1465560">
                <a:tc>
                  <a:txBody>
                    <a:bodyPr lIns="45720" rIns="45720" tIns="46800" bIns="46800" anchor="t">
                      <a:noAutofit/>
                    </a:bodyPr>
                    <a:p>
                      <a:pPr lvl="1" marL="914400" indent="-457200">
                        <a:spcBef>
                          <a:spcPts val="451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birds’ egg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re large because they contain all the nutrient material that the developing bird embryo will need during its growth to a young chick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45720" rIns="45720" tIns="46800" bIns="46800" anchor="t">
                      <a:noAutofit/>
                    </a:bodyPr>
                    <a:p>
                      <a:pPr lvl="1" marL="914400" indent="-457200">
                        <a:spcBef>
                          <a:spcPts val="451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Muscle cell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re long, so that they can contract and shorten up, thereby moving body parts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45720" rIns="45720" tIns="46800" bIns="46800" anchor="t">
                      <a:noAutofit/>
                    </a:bodyPr>
                    <a:p>
                      <a:pPr marL="533520" indent="-5335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Nerve cell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re also long — they need to transmit nerve signals to different parts of the bod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6240">
                <a:tc>
                  <a:txBody>
                    <a:bodyPr lIns="45720" rIns="45720" tIns="46800" bIns="46800" anchor="t">
                      <a:noAutofit/>
                    </a:bodyPr>
                    <a:p>
                      <a:pPr lvl="1" marL="914400" indent="-457200">
                        <a:spcBef>
                          <a:spcPts val="451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epithelial cells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e broad and fla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45720" rIns="45720" tIns="46800" bIns="46800" anchor="t">
                      <a:noAutofit/>
                    </a:bodyPr>
                    <a:p>
                      <a:pPr lvl="1" marL="914400" indent="-457200">
                        <a:spcBef>
                          <a:spcPts val="451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red blood cell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re especially small because they need to get through the smallest capillaries of the circulatory system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2" name="" descr="E is for eggs"/>
          <p:cNvPicPr/>
          <p:nvPr/>
        </p:nvPicPr>
        <p:blipFill>
          <a:blip r:embed="rId6"/>
          <a:stretch/>
        </p:blipFill>
        <p:spPr>
          <a:xfrm>
            <a:off x="5029200" y="2057400"/>
            <a:ext cx="1571760" cy="19573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5638680" y="27432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391520" y="220968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380988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105520" y="48769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0" y="51055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feb4"/>
            </a:gs>
            <a:gs pos="100000">
              <a:srgbClr val="27b6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ucture – animal c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6514920" cy="50547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feb4"/>
            </a:gs>
            <a:gs pos="100000">
              <a:srgbClr val="27b6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Different Types of Cell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feb4"/>
            </a:gs>
            <a:gs pos="100000">
              <a:srgbClr val="27b6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ucture – plant c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219320" y="1371600"/>
            <a:ext cx="6724440" cy="52182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feb4"/>
            </a:gs>
            <a:gs pos="100000">
              <a:srgbClr val="27b6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Mitosis – body cell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0" y="1295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Meiosis – gamet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gg &amp; sper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762120" y="1981080"/>
            <a:ext cx="2485800" cy="29718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5257800" y="1981080"/>
            <a:ext cx="2997360" cy="449604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1600200" y="5105520"/>
            <a:ext cx="2057400" cy="15429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feb4"/>
            </a:gs>
            <a:gs pos="100000">
              <a:srgbClr val="27b6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vement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3848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centrio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cytoskelet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n and tubulin protei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ter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Flagell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. cil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4343400" y="1447920"/>
            <a:ext cx="1981080" cy="13777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4038480" y="2971800"/>
            <a:ext cx="2286000" cy="151776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6629400" y="1608120"/>
            <a:ext cx="2286000" cy="215568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4"/>
          <a:stretch/>
        </p:blipFill>
        <p:spPr>
          <a:xfrm>
            <a:off x="6705720" y="434340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Hamster cilia cells"/>
          <p:cNvPicPr/>
          <p:nvPr/>
        </p:nvPicPr>
        <p:blipFill>
          <a:blip r:embed="rId5"/>
          <a:stretch/>
        </p:blipFill>
        <p:spPr>
          <a:xfrm>
            <a:off x="4343400" y="4572000"/>
            <a:ext cx="1905120" cy="183528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7756560" y="493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419720" y="16002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038480" y="3124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8001000" y="18288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926480" y="4419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562720" y="46483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feb4"/>
            </a:gs>
            <a:gs pos="100000">
              <a:srgbClr val="27b6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eb.jjay.cuny.edu/~acarpi/NSC/13-cells.h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cellbio.com/images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feb4"/>
            </a:gs>
            <a:gs pos="100000">
              <a:srgbClr val="27b6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Review 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feb4"/>
            </a:gs>
            <a:gs pos="100000">
              <a:srgbClr val="27b6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karyote &amp; Eukaryote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imilar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th h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ell membr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bos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verse forms (meaning a lot of shapes and siz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feb4"/>
            </a:gs>
            <a:gs pos="100000">
              <a:srgbClr val="27b6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karyotes &amp; Eukaryotes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f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1219320" y="1828800"/>
          <a:ext cx="7238880" cy="3595680"/>
        </p:xfrm>
        <a:graphic>
          <a:graphicData uri="http://schemas.openxmlformats.org/drawingml/2006/table">
            <a:tbl>
              <a:tblPr/>
              <a:tblGrid>
                <a:gridCol w="3581280"/>
                <a:gridCol w="3657600"/>
              </a:tblGrid>
              <a:tr h="675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karyot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karyot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smid D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membrane-bound organel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w things inside (are simple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clear bound D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s membrane bound organel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y things inside (Are complex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8" name=""/>
          <p:cNvSpPr/>
          <p:nvPr/>
        </p:nvSpPr>
        <p:spPr>
          <a:xfrm>
            <a:off x="1219320" y="5562720"/>
            <a:ext cx="75438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*Organelles a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ny structures inside cells that do a certain jo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feb4"/>
            </a:gs>
            <a:gs pos="100000">
              <a:srgbClr val="27b6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lete this Vinn Diagram worksheet and turn it 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143000" y="2286000"/>
            <a:ext cx="4648320" cy="3886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176360" y="2854440"/>
            <a:ext cx="3610800" cy="274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981080" y="1752480"/>
            <a:ext cx="243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rokaryo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638680" y="1676520"/>
            <a:ext cx="243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ukaryo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523880" y="3352680"/>
            <a:ext cx="198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ite the things that are Differen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733920" y="3886200"/>
            <a:ext cx="19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ite things that are the Same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943600" y="3505320"/>
            <a:ext cx="19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ite the things that are Differen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feb4"/>
            </a:gs>
            <a:gs pos="100000">
              <a:srgbClr val="27b6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" name=""/>
          <p:cNvGraphicFramePr/>
          <p:nvPr/>
        </p:nvGraphicFramePr>
        <p:xfrm>
          <a:off x="304920" y="533520"/>
          <a:ext cx="8305560" cy="5435640"/>
        </p:xfrm>
        <a:graphic>
          <a:graphicData uri="http://schemas.openxmlformats.org/drawingml/2006/table">
            <a:tbl>
              <a:tblPr/>
              <a:tblGrid>
                <a:gridCol w="2768400"/>
                <a:gridCol w="2768760"/>
                <a:gridCol w="27684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racterist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karyo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karyo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10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-100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clear Envelo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s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romoso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gle, circular, no nucle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ltiple, linear, wound on nucleoso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lgi apparat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s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, Lysoso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s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tochondr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s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lorophy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in chloropla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 in chloropla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boso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ly sm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ly l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rotubules, filaments, microfila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s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agel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ck microtubu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ain microtubu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feb4"/>
            </a:gs>
            <a:gs pos="100000">
              <a:srgbClr val="27b6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a typical prokaryote ce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a typical eukaryote ce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the differences between a prokaryote and eukaryote ce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has the simplicity of prokaryotes affected their ability to adapt and survive / thri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has the complexity of eukaryotes affected their ability to adapt and survive / thri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feb4"/>
            </a:gs>
            <a:gs pos="100000">
              <a:srgbClr val="27b6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re are two main groups of cells,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rokaryotic and eukaryotic cell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milariti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l are alive, all belong to one of the five life kingdo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fferenc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ppearance, structure, reproduction, and metabolis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ggest differences are between cells of different kingdo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 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066680" y="3733920"/>
            <a:ext cx="7315200" cy="29192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feb4"/>
            </a:gs>
            <a:gs pos="100000">
              <a:srgbClr val="27b6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re to begi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karyotes are simpler, so we will start with them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648320" y="1843200"/>
            <a:ext cx="4038480" cy="40384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rcRect l="0" t="33337" r="0" b="30556"/>
          <a:stretch/>
        </p:blipFill>
        <p:spPr>
          <a:xfrm>
            <a:off x="990720" y="3429000"/>
            <a:ext cx="2447640" cy="19810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505320" y="3886200"/>
            <a:ext cx="106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V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6248520"/>
            <a:ext cx="84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grams courtesy - http://www.cod.edu/people/faculty/fancher/ProkEuk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feb4"/>
            </a:gs>
            <a:gs pos="100000">
              <a:srgbClr val="27b6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karyotes were formed about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.5 billio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years ago,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 3,500,000,000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History.gif"/>
          <p:cNvPicPr/>
          <p:nvPr/>
        </p:nvPicPr>
        <p:blipFill>
          <a:blip r:embed="rId1"/>
          <a:stretch/>
        </p:blipFill>
        <p:spPr>
          <a:xfrm>
            <a:off x="228600" y="2590920"/>
            <a:ext cx="8701200" cy="35528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feb4"/>
            </a:gs>
            <a:gs pos="100000">
              <a:srgbClr val="27b6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Prokaryotes</a:t>
            </a:r>
            <a:br>
              <a:rPr sz="72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rom the Greek meaning “before nuclei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rokaryote" descr=""/>
          <p:cNvPicPr/>
          <p:nvPr/>
        </p:nvPicPr>
        <p:blipFill>
          <a:blip r:embed="rId1"/>
          <a:stretch/>
        </p:blipFill>
        <p:spPr>
          <a:xfrm>
            <a:off x="1905120" y="1905120"/>
            <a:ext cx="5486400" cy="47512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feb4"/>
            </a:gs>
            <a:gs pos="100000">
              <a:srgbClr val="27b6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“before nuclei?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karyotic cells have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o nucleu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karyote’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NA is circula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it has no end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ll circlets of DNA are calle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mid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karyotic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NA is “naked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it has no histones associated with it and does NOT form chromoso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feb4"/>
            </a:gs>
            <a:gs pos="100000">
              <a:srgbClr val="27b6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560" y="9907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ll Prokaryotes are in the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moner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kingdom</a:t>
            </a:r>
            <a:br>
              <a:rPr sz="5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mains 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Bacteri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rchae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ter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8320" y="1676520"/>
            <a:ext cx="403848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yanobacte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known as blue-green alga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bacillus_bacteria1" descr=""/>
          <p:cNvPicPr/>
          <p:nvPr/>
        </p:nvPicPr>
        <p:blipFill>
          <a:blip r:embed="rId1"/>
          <a:stretch/>
        </p:blipFill>
        <p:spPr>
          <a:xfrm>
            <a:off x="228600" y="3124080"/>
            <a:ext cx="3809880" cy="31179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343400" y="3429000"/>
            <a:ext cx="4476600" cy="28782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4T19:05:17Z</dcterms:created>
  <dc:creator>Staff</dc:creator>
  <dc:description/>
  <dc:language>en-US</dc:language>
  <cp:lastModifiedBy>SGANSK</cp:lastModifiedBy>
  <dcterms:modified xsi:type="dcterms:W3CDTF">2008-06-10T18:40:11Z</dcterms:modified>
  <cp:revision>31</cp:revision>
  <dc:subject/>
  <dc:title>Different Types of Cells </dc:title>
</cp:coreProperties>
</file>